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C1D-F7B7-459C-826D-B61DD249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EF1-7DE3-4630-BE8F-BA6B6D00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6EB-F6CE-44ED-81B3-66E55350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745-DC72-497D-8C31-ABF3380C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B15-C22B-47DF-A455-150FB28F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BB6-D9E7-4E14-B9FB-ECBAFDB4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753-37C0-4971-A248-F79637AB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EC2-7EE4-48AD-82C9-3D2897DC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B05-D1BC-4EB5-A170-633CB0D5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562-82BB-46C5-94A3-4B8508B3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E80-F938-4012-875F-C8B8B78F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832-6378-4D66-A94D-73D44DC8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1FAD6-89C6-4D56-85E9-1DFDB38659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1828800"/>
            <a:ext cx="8458200" cy="314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3596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8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012 Presidential Election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8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8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Tee K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8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and National Def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ama believes in cutting down army spending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om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conomy and Jo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486040" y="1767960"/>
            <a:ext cx="408924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om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600200"/>
            <a:ext cx="4425840" cy="65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ack Obama  Says he wants to expand the job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of American-made goo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lso says he will cut Taxes to break small businesse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omn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4:58:45Z</dcterms:created>
  <dc:creator/>
  <dc:description/>
  <dc:language>en-US</dc:language>
  <cp:lastModifiedBy/>
  <cp:revision>1</cp:revision>
  <dc:subject/>
  <dc:title/>
</cp:coreProperties>
</file>